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271-0942-4D33-9EB4-E06D2642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7DCA-00B1-40BD-BC64-E26A5C85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608-F0BC-4303-90A9-68BF1356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37F-E347-471D-9032-35887E72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245-203C-4A8A-99A8-36970AA5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2C1-00C8-4DD3-8B06-D4D075C9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493-B293-4CF1-B929-B2EA7898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70-8559-420F-96B0-C22F1A35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D23-6263-49C4-B9F0-961DFDBF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622-36E3-4888-8EA5-B735825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938-4233-4890-9304-1E129A4B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4E5-913D-45AA-934A-FCA1425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0B1-4902-4AA3-ACEF-1B1CE07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09F-DBCD-49A1-951D-7A74B13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0DA-9823-423F-80D4-83A28AF7D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2286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  <a:ea typeface="Arial"/>
              </a:rPr>
              <a:t>Possible Entr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9880" y="3657600"/>
            <a:ext cx="1879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09880" y="3276720"/>
            <a:ext cx="1997280" cy="16905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733920" y="152388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6629400" y="228600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4800600" y="2514600"/>
            <a:ext cx="0" cy="73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5562720" y="3048120"/>
            <a:ext cx="1190520" cy="49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7086600" y="2590920"/>
            <a:ext cx="130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705720" y="4114800"/>
            <a:ext cx="215100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791320" y="4191120"/>
            <a:ext cx="998280" cy="191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3733920" y="5562720"/>
            <a:ext cx="2073240" cy="9982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800600" y="4952880"/>
            <a:ext cx="0" cy="614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609480" y="4419720"/>
            <a:ext cx="2303640" cy="115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H="1">
            <a:off x="2819160" y="4572000"/>
            <a:ext cx="1152360" cy="23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1143000" y="2590920"/>
            <a:ext cx="176688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H="1" flipV="1">
            <a:off x="2666880" y="3428640"/>
            <a:ext cx="1190880" cy="422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486400" y="655308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uster Diagram”  Hyerle- Corwin Pres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1:15Z</dcterms:created>
  <dc:creator>Ann Johnson</dc:creator>
  <dc:description/>
  <dc:language>en-US</dc:language>
  <cp:lastModifiedBy>Ann</cp:lastModifiedBy>
  <dcterms:modified xsi:type="dcterms:W3CDTF">2009-07-20T14:22:44Z</dcterms:modified>
  <cp:revision>7</cp:revision>
  <dc:subject/>
  <dc:title>Slide 1</dc:title>
</cp:coreProperties>
</file>